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1341360"/>
            <a:ext cx="46836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2"/>
          <p:cNvSpPr/>
          <p:nvPr/>
        </p:nvSpPr>
        <p:spPr>
          <a:xfrm>
            <a:off x="539640" y="1341360"/>
            <a:ext cx="8604360" cy="0"/>
          </a:xfrm>
          <a:prstGeom prst="line">
            <a:avLst/>
          </a:prstGeom>
          <a:ln w="127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McIsaac Colour Logo 7cm wide.jpg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214280"/>
            <a:ext cx="864396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6600"/>
                </a:solidFill>
                <a:latin typeface="Calibri"/>
              </a:rPr>
              <a:t>Challenging Realities of </a:t>
            </a:r>
            <a:br>
              <a:rPr sz="5200"/>
            </a:br>
            <a:r>
              <a:rPr b="1" lang="en-US" sz="5200" spc="-1" strike="noStrike">
                <a:solidFill>
                  <a:srgbClr val="ff6600"/>
                </a:solidFill>
                <a:latin typeface="Calibri"/>
              </a:rPr>
              <a:t>Home-Care Moving &amp; Handling for Community Based Support Workers </a:t>
            </a:r>
            <a:br>
              <a:rPr sz="4800"/>
            </a:br>
            <a:endParaRPr b="0" lang="en-US" sz="5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42" name="Line 9"/>
          <p:cNvSpPr/>
          <p:nvPr/>
        </p:nvSpPr>
        <p:spPr>
          <a:xfrm>
            <a:off x="0" y="6597720"/>
            <a:ext cx="468360" cy="0"/>
          </a:xfrm>
          <a:prstGeom prst="line">
            <a:avLst/>
          </a:prstGeom>
          <a:ln w="3808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539640" y="6597720"/>
            <a:ext cx="8604360" cy="0"/>
          </a:xfrm>
          <a:prstGeom prst="line">
            <a:avLst/>
          </a:prstGeom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cIsaac Colour Logo 7cm wide.jpg"/>
          <p:cNvPicPr/>
          <p:nvPr/>
        </p:nvPicPr>
        <p:blipFill>
          <a:blip r:embed="rId1"/>
          <a:stretch/>
        </p:blipFill>
        <p:spPr>
          <a:xfrm>
            <a:off x="0" y="0"/>
            <a:ext cx="36320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1 Support Worker in Home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63" name="Content Placeholder 7" descr="neck lift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ome Based Hazard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2560" y="1571400"/>
            <a:ext cx="5000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Razor, toothbrush charger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TV, DVD, Lap Top, Stereo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Electric bed/fan/heater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Phone, gaming station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Fish tank, lamp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Hoist &amp; chair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6" name="Content Placeholder 4" descr="cords and plugs.jpg"/>
          <p:cNvPicPr/>
          <p:nvPr/>
        </p:nvPicPr>
        <p:blipFill>
          <a:blip r:embed="rId1"/>
          <a:stretch/>
        </p:blipFill>
        <p:spPr>
          <a:xfrm>
            <a:off x="5000760" y="1428840"/>
            <a:ext cx="4143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ome Based Hazard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68" name="Content Placeholder 9" descr="cat fest.jpg"/>
          <p:cNvPicPr/>
          <p:nvPr/>
        </p:nvPicPr>
        <p:blipFill>
          <a:blip r:embed="rId1"/>
          <a:stretch/>
        </p:blipFill>
        <p:spPr>
          <a:xfrm>
            <a:off x="4643280" y="1428840"/>
            <a:ext cx="4500720" cy="5429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85840" y="1428840"/>
            <a:ext cx="4286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ats climbing up leg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Dogs attacking staff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Toys scattered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hild minding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Thick carpet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Wet floor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Shoeles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andling Around Hoarding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71" name="Content Placeholder 8" descr="kitty clutter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Social Hazard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1599840"/>
            <a:ext cx="4572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Alcohol misuse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Marijuana smoke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Domestic dispute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Positioning clients for physical relationship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lients, friends &amp; family sexually harassing staff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4" name="Content Placeholder 4" descr="off his head.jpg"/>
          <p:cNvPicPr/>
          <p:nvPr/>
        </p:nvPicPr>
        <p:blipFill>
          <a:blip r:embed="rId1"/>
          <a:stretch/>
        </p:blipFill>
        <p:spPr>
          <a:xfrm>
            <a:off x="4857840" y="1428840"/>
            <a:ext cx="4286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Ageing Issue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2920" y="1642680"/>
            <a:ext cx="4929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Medical advances prolonging life 30-40 yr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Increase in co-morbiditie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ognitive decline faster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Body ages faster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7" name="Content Placeholder 14" descr="250px-Christopher_Reeve_MIT.jpg"/>
          <p:cNvPicPr/>
          <p:nvPr/>
        </p:nvPicPr>
        <p:blipFill>
          <a:blip r:embed="rId1"/>
          <a:stretch/>
        </p:blipFill>
        <p:spPr>
          <a:xfrm>
            <a:off x="5000760" y="1428840"/>
            <a:ext cx="4143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Sizing Issue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920" y="164304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lients becoming obese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Cervical paralyzed people are ‘heavier’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Difficulty assisting in their own transfer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80" name="Content Placeholder 8" descr="obese.jpg"/>
          <p:cNvPicPr/>
          <p:nvPr/>
        </p:nvPicPr>
        <p:blipFill>
          <a:blip r:embed="rId1"/>
          <a:stretch/>
        </p:blipFill>
        <p:spPr>
          <a:xfrm>
            <a:off x="4857840" y="1428840"/>
            <a:ext cx="4286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Turning Bariatric Client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82" name="Content Placeholder 3" descr="dog in way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Equipment Size Vs Home Space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84" name="Content Placeholder 3" descr="Bariatric-patient.gif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Functional Furniture 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86" name="Content Placeholder 5" descr="Choosing-an-Adjustable-Electric-Bed.jpg"/>
          <p:cNvPicPr/>
          <p:nvPr/>
        </p:nvPicPr>
        <p:blipFill>
          <a:blip r:embed="rId1"/>
          <a:stretch/>
        </p:blipFill>
        <p:spPr>
          <a:xfrm>
            <a:off x="0" y="1428840"/>
            <a:ext cx="4643280" cy="5429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7" descr="man ceiling hoist.jpg"/>
          <p:cNvPicPr/>
          <p:nvPr/>
        </p:nvPicPr>
        <p:blipFill>
          <a:blip r:embed="rId2"/>
          <a:stretch/>
        </p:blipFill>
        <p:spPr>
          <a:xfrm>
            <a:off x="4786200" y="1428840"/>
            <a:ext cx="4357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McIsaac Caregiving Agency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48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ACC funded home support for seriously injured spinal cord &amp; brain damaged people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2/3 are tetraplegic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3/4 clients are male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are from 12-24 hour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Aged from 5 to 82 year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Usually only 1 female Support Worker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Community Issue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Staff assist clients in community activitie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Many do not allow for safe moving/handling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Results in repetitive strains/injuries for staff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90" name="Content Placeholder 4" descr="grass chair.jpg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Unsafe Handling Technique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ACC Patient Handling Guidelines state these techniques as unsafe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→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</a:rPr>
              <a:t>‘</a:t>
            </a:r>
            <a:r>
              <a:rPr b="1" i="1" lang="en-US" sz="3200" spc="-1" strike="noStrike">
                <a:solidFill>
                  <a:srgbClr val="003366"/>
                </a:solidFill>
                <a:latin typeface="Calibri"/>
              </a:rPr>
              <a:t>To be eliminated immediately as can  cause significant injuries’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3280" y="1499760"/>
            <a:ext cx="4500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Orthodox Lift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Cross Arm Lift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op &amp; Tail Lift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Underarm Drag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Flip Turn on a Bed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Front Assisted Transfer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Australian Shoulder Lift   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12120" indent="-31212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ealth &amp; Disability Commission (HDC) 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49976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ode of Rights </a:t>
            </a: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for people with disabilities states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Right to care and support that suits them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o make choices about their health or disability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DC Code does not override other legislation </a:t>
            </a: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e.g. Health and Safety in Employment Act 2002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alibri"/>
              </a:rPr>
              <a:t>“</a:t>
            </a:r>
            <a:r>
              <a:rPr b="1" i="1" lang="en-US" sz="3200" spc="-1" strike="noStrike">
                <a:solidFill>
                  <a:srgbClr val="ff6600"/>
                </a:solidFill>
                <a:latin typeface="Calibri"/>
              </a:rPr>
              <a:t>Nothing in the Code requires providers                        to act in breach of a duty”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DC Code of Rights vs DoL 2002 Law?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560" y="1600200"/>
            <a:ext cx="4357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Clients can remove staff from workplace if staff refuse to move them in an unsafe way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OCK vs HARD PLACE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</a:rPr>
              <a:t>RISK INJURY?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</a:rPr>
              <a:t>LOSE JOB?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98" name="Content Placeholder 5" descr="127-hours-tlr.jpg"/>
          <p:cNvPicPr/>
          <p:nvPr/>
        </p:nvPicPr>
        <p:blipFill>
          <a:blip r:embed="rId1"/>
          <a:stretch/>
        </p:blipFill>
        <p:spPr>
          <a:xfrm>
            <a:off x="4572000" y="1428840"/>
            <a:ext cx="4572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ACC’s LITEN UP For Whom?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560" y="1642680"/>
            <a:ext cx="5000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ITEN UP Approach: </a:t>
            </a:r>
            <a:r>
              <a:rPr b="1" i="1" lang="en-US" sz="3200" spc="-1" strike="noStrike">
                <a:solidFill>
                  <a:srgbClr val="003366"/>
                </a:solidFill>
                <a:latin typeface="Calibri"/>
              </a:rPr>
              <a:t>“…eliminate thinking that a lift will be involved…”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Who is responsible for changing client’s thinking that they will be lifted?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1" name="Content Placeholder 4" descr="3 months hernia.jpg"/>
          <p:cNvPicPr/>
          <p:nvPr/>
        </p:nvPicPr>
        <p:blipFill>
          <a:blip r:embed="rId1"/>
          <a:stretch/>
        </p:blipFill>
        <p:spPr>
          <a:xfrm>
            <a:off x="5143680" y="1428840"/>
            <a:ext cx="40003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Whose Rights Are Right?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920" y="1599840"/>
            <a:ext cx="4286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Whose human rights are more important?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he disabled client’s or family’s wishes?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Or staff’s long-term safety &amp; well-being?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4" name="Picture 3" descr="disabled lift.jpg"/>
          <p:cNvPicPr/>
          <p:nvPr/>
        </p:nvPicPr>
        <p:blipFill>
          <a:blip r:embed="rId1"/>
          <a:stretch/>
        </p:blipFill>
        <p:spPr>
          <a:xfrm>
            <a:off x="4357800" y="1428840"/>
            <a:ext cx="47862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Supporting Support Worker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2560" y="1428480"/>
            <a:ext cx="4352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oercion of SW into moving unsafely has a personal cost to staff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Vocational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Financial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Familial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Sexual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Social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7" name="Content Placeholder 5" descr="caring%20for%20caregiver.jpg"/>
          <p:cNvPicPr/>
          <p:nvPr/>
        </p:nvPicPr>
        <p:blipFill>
          <a:blip r:embed="rId1"/>
          <a:stretch/>
        </p:blipFill>
        <p:spPr>
          <a:xfrm>
            <a:off x="4500720" y="1428840"/>
            <a:ext cx="44290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Assigning Responsibility 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109" name="Content Placeholder 15" descr="right and responsibility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Safety for Community Staff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5840" y="164268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ACC to review clients ability to remove staff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To prevent clients dismissing staff                         for refusing to move them unsafely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ACC to support Agencies in upholding 1992/02 Health &amp; Safety in Employment Act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Rather than financially penalizing them                in a home situation for client non-compliance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Safety for Community Staff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16430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ACC to review client’s functioning every 5 years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To assess for cognitive and physical decline and possibility of more SW hours/support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Homes to have compulsory use of safe equipment &amp; environment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eiling hoists, electric beds, appropriate flooring, mobility car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Code of Practice for Manual Handling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152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6600"/>
                </a:solidFill>
                <a:latin typeface="Calibri"/>
              </a:rPr>
              <a:t>“</a:t>
            </a:r>
            <a:r>
              <a:rPr b="1" i="1" lang="en-US" sz="3400" spc="-1" strike="noStrike">
                <a:solidFill>
                  <a:srgbClr val="ff6600"/>
                </a:solidFill>
                <a:latin typeface="Calibri"/>
              </a:rPr>
              <a:t>Safe handling means making it safe for both carer and patient. </a:t>
            </a:r>
            <a:endParaRPr b="0" lang="en-US" sz="34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6600"/>
                </a:solidFill>
                <a:latin typeface="Calibri"/>
              </a:rPr>
              <a:t>When the load is another person                               we need to eliminate the thinking                                         that a lift will be involved.”</a:t>
            </a:r>
            <a:endParaRPr b="0" lang="en-US" sz="34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Calibri"/>
              </a:rPr>
              <a:t>Occupational Safety and Health (OSH)</a:t>
            </a:r>
            <a:endParaRPr b="0" lang="en-US" sz="30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Calibri"/>
              </a:rPr>
              <a:t>Accident Compensation Corporation (ACC) 2001</a:t>
            </a:r>
            <a:endParaRPr b="0" lang="en-US" sz="30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Safety for Community Staff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3840" y="1642680"/>
            <a:ext cx="8643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Financial penalty for clients/family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When repeatedly coercing staff into                unsafe moving and handling practice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Clients to be moved to rest/group home if work environment is repeatedly hazardous for staff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Unsafe environment, harassment &amp; coercion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Community Focused Guideline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149976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ACC to THINK about STAFF SAFETY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&amp;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modify their Patient Handling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Guidelines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for staff in client homes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1 Support Worker manual handling, not 2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Inappropriate flooring and cluttered space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Refusal of clients to use appropriate equipment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Non-compliant clients &amp; family with safe practice 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18" name="Content Placeholder 4" descr="acc_thinksafe.gif"/>
          <p:cNvPicPr/>
          <p:nvPr/>
        </p:nvPicPr>
        <p:blipFill>
          <a:blip r:embed="rId1"/>
          <a:stretch/>
        </p:blipFill>
        <p:spPr>
          <a:xfrm>
            <a:off x="142920" y="1500120"/>
            <a:ext cx="28573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Legislation or Just A Dead Tree?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920" y="160020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Moving and Handling Guidelines to become Legislation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ents &amp; family to be legally accountable   to uphold them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1" name="Content Placeholder 5" descr="dead_tree_in_the_african_desert-wide.jpg"/>
          <p:cNvPicPr/>
          <p:nvPr/>
        </p:nvPicPr>
        <p:blipFill>
          <a:blip r:embed="rId1"/>
          <a:stretch/>
        </p:blipFill>
        <p:spPr>
          <a:xfrm>
            <a:off x="4500720" y="1428840"/>
            <a:ext cx="4643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Future of Moving &amp; Handling?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123" name="Content Placeholder 3" descr="robot lift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alibri"/>
              </a:rPr>
              <a:t>Moving and Handling Training</a:t>
            </a:r>
            <a:endParaRPr b="0" lang="en-US" sz="40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920" y="150012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Orientation &amp; Induction information on body care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Education on Health &amp; Safety Employment Act 1992/02 and ACC’s LITEN UP Approach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lient specific moving and handling advice from spinal unit physiotherapists for new client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In-house training and support from supervisor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Use of appropriate equipment &amp; safety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Incident reporting &amp; team de-brief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ospital Handling Training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52" name="Content Placeholder 9" descr="not real life healthy subjects.jpg"/>
          <p:cNvPicPr/>
          <p:nvPr/>
        </p:nvPicPr>
        <p:blipFill>
          <a:blip r:embed="rId1"/>
          <a:stretch/>
        </p:blipFill>
        <p:spPr>
          <a:xfrm>
            <a:off x="4714920" y="1428840"/>
            <a:ext cx="4429080" cy="5429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5" descr="floor lift 2 people.jpg"/>
          <p:cNvPicPr/>
          <p:nvPr/>
        </p:nvPicPr>
        <p:blipFill>
          <a:blip r:embed="rId2"/>
          <a:stretch/>
        </p:blipFill>
        <p:spPr>
          <a:xfrm>
            <a:off x="0" y="1428840"/>
            <a:ext cx="4714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ACC NZ Patient Handling Guidelines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Set in a hospital / rest home environment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Always using appropriate equipment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Environment safe and uncluttered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Reduced distractions and hazard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Compliant clients and family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Utilizing 2 or more staff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33300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ealth &amp; Safety Employment Act 1992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480" y="1571400"/>
            <a:ext cx="8715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Employer’s Responsibilities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Proactively prevent harm to employee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Provide safe equipment &amp; work area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Assess &amp; control hazards which can cause harm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NZ Standard 4121:2001 outlines safe ergonomic facility design for disabled people,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yet not for client’s home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33300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Health &amp; Safety Employment Act 2002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Employee’s Responsibilities: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Take all practicable steps to ensure;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heir own safety at work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hat no action or inaction while at work causes harm to any other person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Calibri"/>
              </a:rPr>
              <a:t>Client’s Responsibilities? </a:t>
            </a:r>
            <a:endParaRPr b="0" lang="en-US" sz="4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3840" y="1571760"/>
            <a:ext cx="85726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Acknowledge SWs are Agency employees &amp; are subject to employment law &amp; OSH regulation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alibri"/>
              </a:rPr>
              <a:t>However…</a:t>
            </a: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 clients can refuse to have or use appropriate safe equipment in their homes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bri"/>
              </a:rPr>
              <a:t>Homes are full of environmental &amp; social hazards that make the SWs care duties unsafe</a:t>
            </a: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2:59:30Z</dcterms:created>
  <dc:creator>Melanie</dc:creator>
  <dc:description/>
  <dc:language>en-US</dc:language>
  <cp:lastModifiedBy>Anne McMahon (WDHB)</cp:lastModifiedBy>
  <dcterms:modified xsi:type="dcterms:W3CDTF">2017-11-30T02:35:06Z</dcterms:modified>
  <cp:revision>157</cp:revision>
  <dc:subject/>
  <dc:title>McIsaac Caregiving Agency Complaints Policy</dc:title>
</cp:coreProperties>
</file>